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B2EA-F603-49F3-9DC1-65BBB7C3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8598-F65C-42BD-B3C3-B80048602D38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936720" y="754200"/>
            <a:ext cx="47959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4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5876640"/>
            <a:ext cx="79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539640" y="6165720"/>
            <a:ext cx="528840" cy="395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TSE"/>
          <p:cNvPicPr/>
          <p:nvPr/>
        </p:nvPicPr>
        <p:blipFill>
          <a:blip r:embed="rId3"/>
          <a:stretch/>
        </p:blipFill>
        <p:spPr>
          <a:xfrm>
            <a:off x="1042920" y="6165720"/>
            <a:ext cx="733320" cy="397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"/>
          <p:cNvPicPr/>
          <p:nvPr/>
        </p:nvPicPr>
        <p:blipFill>
          <a:blip r:embed="rId4"/>
          <a:stretch/>
        </p:blipFill>
        <p:spPr>
          <a:xfrm>
            <a:off x="1835280" y="6165720"/>
            <a:ext cx="701640" cy="395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logo europa"/>
          <p:cNvPicPr/>
          <p:nvPr/>
        </p:nvPicPr>
        <p:blipFill>
          <a:blip r:embed="rId5"/>
          <a:stretch/>
        </p:blipFill>
        <p:spPr>
          <a:xfrm>
            <a:off x="2556000" y="6165720"/>
            <a:ext cx="582480" cy="395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6"/>
          <a:stretch/>
        </p:blipFill>
        <p:spPr>
          <a:xfrm>
            <a:off x="3203640" y="6165720"/>
            <a:ext cx="14907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dab.be/arbeidshandicap" TargetMode="External"/><Relationship Id="rId2" Type="http://schemas.openxmlformats.org/officeDocument/2006/relationships/hyperlink" Target="http://vdab.be/arbeidshandicap" TargetMode="External"/><Relationship Id="rId3" Type="http://schemas.openxmlformats.org/officeDocument/2006/relationships/hyperlink" Target="http://vdab.be/arbeidshandicap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duodag.be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tse.two-seas.eu/nl-NL/" TargetMode="External"/><Relationship Id="rId2" Type="http://schemas.openxmlformats.org/officeDocument/2006/relationships/hyperlink" Target="http://tse.two-seas.eu/nl-NL/" TargetMode="External"/><Relationship Id="rId3" Type="http://schemas.openxmlformats.org/officeDocument/2006/relationships/hyperlink" Target="http://tse.two-seas.eu/nl-NL/" TargetMode="External"/><Relationship Id="rId4" Type="http://schemas.openxmlformats.org/officeDocument/2006/relationships/hyperlink" Target="http://tse.two-seas.eu/nl-NL/" TargetMode="External"/><Relationship Id="rId5" Type="http://schemas.openxmlformats.org/officeDocument/2006/relationships/hyperlink" Target="http://tse.two-seas.eu/nl-NL/" TargetMode="Externa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hyperlink" Target="mailto:Info.ovl@gtb-vlaanderen.be" TargetMode="External"/><Relationship Id="rId5" Type="http://schemas.openxmlformats.org/officeDocument/2006/relationships/hyperlink" Target="mailto:Info.ovl@gtb-vlaanderen.be" TargetMode="External"/><Relationship Id="rId6" Type="http://schemas.openxmlformats.org/officeDocument/2006/relationships/hyperlink" Target="mailto:Info.ovl@gtb-vlaanderen.b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jobenco.be/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ckling Social Exclusion </a:t>
            </a:r>
            <a:br>
              <a:rPr sz="40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Gent werkt aan toegankelijkheid </a:t>
            </a:r>
            <a:br>
              <a:rPr sz="3200"/>
            </a:b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van stadsinterne tewerkstelling </a:t>
            </a:r>
            <a:br>
              <a:rPr sz="3200"/>
            </a:br>
            <a:r>
              <a:rPr b="1" lang="en-US" sz="3200" spc="-1" strike="noStrike">
                <a:solidFill>
                  <a:srgbClr val="898989"/>
                </a:solidFill>
                <a:latin typeface="Arial"/>
              </a:rPr>
              <a:t>voor personen met een handicap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2 december Lunchgespr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amen buitengewoon goed! Ook jouw collega heeft een handic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Arial"/>
              </a:rPr>
              <a:t>Overzicht aanbod netwerk PmAH</a:t>
            </a:r>
            <a:br>
              <a:rPr sz="3600"/>
            </a:br>
            <a:r>
              <a:rPr b="0" lang="en-GB" sz="3600" spc="-1" strike="noStrike">
                <a:solidFill>
                  <a:srgbClr val="002060"/>
                </a:solidFill>
                <a:latin typeface="Arial"/>
              </a:rPr>
              <a:t>werkzoekenden &amp; werknem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pecialiseerde Trajectbepalings- en Trajectbegeleidingsdienst (G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pecialiseerde Opleidings-, Begeleidings- en Bemiddelingsdiensten (GOB) in G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b &amp;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CBO – U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illeliga: voor blinden en slechtzi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leidings- en begeleidingsdienst voor kansengroepen, o.a. PmAH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ep I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kunnen wij voor u do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We zoeken mee naar een geschikte kandidaat voor uw vac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Grondige screening van onze kandi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schatting of kandidaten geschikt zijn voor uw vac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rverwijzing van geschikte kandid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dvies om selectie toegankelijk te maken voor Pm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We zoeken mee naar een geschikte kandidaat voor uw vac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kunt hiervoor uw vacatures bekendmaken 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B – UCBO - Job &amp; Co – Brailleliga – Groep I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Laat u overtuigen via een sta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krijgt de kans om de potentiële werknemer te eval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erknemer doet ervaring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investeert in opleiding, maar niet in l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krijgt extra ondersteuning door één van onze begelei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antwoorden van vragen, meedenken rond oplossingen voor specifieke probleme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Arial"/>
              </a:rPr>
              <a:t>Laat u overtuigen via een sta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korte beroepenverkennende stage van max. 5 dagen via trajectbegeleider (GTB of UC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korte stage van 2 à 3 weken via Brailleliga, Groep INTRO, Job &amp; Co of UC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gdurige stage van 5 à 8 weken tot 8 maanden via GOB (Brailleliga, Job &amp; Co of UCB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Arial"/>
              </a:rPr>
              <a:t>Uw potentiële werknemer heeft nog opleiding nodig?</a:t>
            </a: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Dan kan een GIB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GIBO staat voor ‘Gespecialiseerde Individuele BeroepsOpleiding op de werkvloe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Kosteloos voor werkgever; vergoeding voor kandidaat werkne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werving (contract onbepaalde duur) van kandidaat na positieve 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tensieve ondersteuning en opvolging door één van de begeleiders van een G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Arial"/>
              </a:rPr>
              <a:t>Uw potentiële werknemer heeft nog opleiding nodig?</a:t>
            </a: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r>
              <a:rPr b="0" lang="nl-BE" sz="3600" spc="-1" strike="noStrike">
                <a:solidFill>
                  <a:srgbClr val="333399"/>
                </a:solidFill>
                <a:latin typeface="Arial"/>
              </a:rPr>
              <a:t>Dan kan een GIB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toeleiding naar en de begeleiding tijdens een GIBO gebeurt door een GO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Braillel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Job &amp; 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UC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Advies bij tewerkstellingsondersteunende maatrege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lgemene zoals Activa, premie 50+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ijzondere voor PmAH (BTOM’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laamse Ondersteuningspremie (VOP: 20 tot 60% van de loonk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ussenkomsten in arbeidspostaanpassingen, aangepast arbeidsgereedschap, in verplaatsingskosten of verblijfskosten, Doventolke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74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Vlaamse Ondersteuningspremie V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628640"/>
            <a:ext cx="8174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Basiscyclus 1e jaar: krachtige financiële impuls (40%) - Daarna degressief (30%, 20%, 20%,20%); daarna evaluatie voor ver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Bij lokale besturen: enkel voor nieuwe werknemers, aangeworven sinds 1/7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verandering werkgever: basiscyclus start opnie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Op vraag verhoging tot max 60% na bezoek DAH op werkplek en na voorwaardelijke beslissing DAH met evaluatie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Brede cumul andere tegemoetkom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3"/>
          <p:cNvSpPr/>
          <p:nvPr/>
        </p:nvSpPr>
        <p:spPr>
          <a:xfrm>
            <a:off x="785880" y="1357200"/>
            <a:ext cx="7572240" cy="180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Program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erwelkoming door dhr. Tapmaz,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chepen van personeelsbeleid, informatica, administratieve vereenvoudiging en kwaliteitszorg</a:t>
            </a: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leiding met enkele feiten en cij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Interview met collega’s met handicap met onmiddellijke terugkoppeling van het aanbod van de stadsinterne dien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wee leidinggevenden aan het w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Voorstelling toeleidingstra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iscussie en vraag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Advies bij tewerkstellingsondersteunende maatrege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anvraag rechten aan persoon met arbeidshandicap via G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nze begeleiders bekijken samen met u welke maatregelen van toepassing zijn en bezorgen alle info nodig om de aanvragen uit te vo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nl-B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dab.be</a:t>
            </a:r>
            <a:r>
              <a:rPr b="0" lang="nl-BE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arbeidshandicap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Ondersteuning na aanwer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Wij bieden tenminste 3 maanden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nazorg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, waarop zowel de werkgever als de werknemer beroep kan do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- Gedurende het eerste jaar van tewerkstelling is er mogelijkheid tot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jobcoaching: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  <a:ea typeface="Arial"/>
              </a:rPr>
              <a:t>begeleiding op de werkvloer van de nieuwe werknemer en zijn/haar werkgever (enkel NEC) door één van onze coaches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  <a:ea typeface="Arial"/>
              </a:rPr>
              <a:t>(Brailleliga, Groep Intro, Job &amp; Co en UCB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Arial"/>
              </a:rPr>
              <a:t>En wat kunnen we doen voor een werknemer met een arbeidshandic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et volledig aanbod van de GOB’s staat ook open voor werknemers : bijscholing, al dan niet op de werkvloer, coaching, advies bij problemen/vragen, …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Brailleliga, UCBO, Job &amp; 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oopbaanbegeleiding voor werknemers met een arbeidshandicap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GT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geleiding bij reïntegratie van werknemers die dreigen uit te vallen, of uitgevallen zijn, wegens langdurige gezondheidsproblemen en/of functiebeperkingen </a:t>
            </a: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(UCB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En het kostenplaatj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ze diensten zij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ti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kzij de subsidies van VDAB en/of ES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Afbeelding 4" descr="vdab + esf + EU +VG.bmp"/>
          <p:cNvPicPr/>
          <p:nvPr/>
        </p:nvPicPr>
        <p:blipFill>
          <a:blip r:embed="rId1"/>
          <a:stretch/>
        </p:blipFill>
        <p:spPr>
          <a:xfrm>
            <a:off x="2627280" y="3860640"/>
            <a:ext cx="36734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Goe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Doe dan mee met de Duodag en vorm samen met een persoon met een arbeidshandicap voor 1 dag een Du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Hij proeft van uw job en jij maakt kennis met de mogelijkheden van personen met een arbeidshandi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uodag.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Arial"/>
              </a:rPr>
              <a:t>24 maart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jn er nog 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eer info over Tackling Soci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kan je raadplegen 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e.two-seas.eu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l-NL</a:t>
            </a:r>
            <a:r>
              <a:rPr b="0" lang="nl-BE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B81-AE96-4825-B041-89769BF74A7C}" type="slidenum">
              <a:rPr b="0" lang="nl-B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7487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orte voorstelling diensten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nnen netwerk  :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Trajectbegeleidingsdienst GTB</a:t>
            </a:r>
            <a:r>
              <a:rPr b="0" lang="en-GB" sz="4400" spc="-1" strike="noStrike">
                <a:solidFill>
                  <a:srgbClr val="558ed5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626920" y="2133360"/>
            <a:ext cx="766764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Trajectbegeleiding naar job op 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Op de open arbeidsma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n beschutte werkpla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n sociale werkpla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Binnen arbeidsz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Loopbaanbegeleiding voor werk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Activeringsbegel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werkzoekenden mmpp problemati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ism partners zorg, welzijn en empower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focus op drempels wegwerken ifv vervolgtraj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14" descr="272437_PP_Presentatie_Page_1.jpg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199692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2"/>
          <p:cNvGrpSpPr/>
          <p:nvPr/>
        </p:nvGrpSpPr>
        <p:grpSpPr>
          <a:xfrm>
            <a:off x="0" y="2492280"/>
            <a:ext cx="2484000" cy="3885840"/>
            <a:chOff x="0" y="2492280"/>
            <a:chExt cx="2484000" cy="3885840"/>
          </a:xfrm>
        </p:grpSpPr>
        <p:pic>
          <p:nvPicPr>
            <p:cNvPr id="132" name="Picture 10" descr="Keuken Grijkoort2"/>
            <p:cNvPicPr/>
            <p:nvPr/>
          </p:nvPicPr>
          <p:blipFill>
            <a:blip r:embed="rId2"/>
            <a:stretch/>
          </p:blipFill>
          <p:spPr>
            <a:xfrm>
              <a:off x="0" y="2492280"/>
              <a:ext cx="2484000" cy="19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Kopie van ATB bureau GENT 2"/>
            <p:cNvPicPr/>
            <p:nvPr/>
          </p:nvPicPr>
          <p:blipFill>
            <a:blip r:embed="rId3"/>
            <a:stretch/>
          </p:blipFill>
          <p:spPr>
            <a:xfrm>
              <a:off x="0" y="4395960"/>
              <a:ext cx="2484000" cy="198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127" descr="BannerESFTender2"/>
          <p:cNvPicPr/>
          <p:nvPr/>
        </p:nvPicPr>
        <p:blipFill>
          <a:blip r:embed="rId4"/>
          <a:stretch/>
        </p:blipFill>
        <p:spPr>
          <a:xfrm>
            <a:off x="0" y="60930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35" name="Afbeelding 11" descr="foto ppt.jpg"/>
          <p:cNvPicPr/>
          <p:nvPr/>
        </p:nvPicPr>
        <p:blipFill>
          <a:blip r:embed="rId5"/>
          <a:stretch/>
        </p:blipFill>
        <p:spPr>
          <a:xfrm>
            <a:off x="0" y="492120"/>
            <a:ext cx="24843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1052640"/>
            <a:ext cx="7524720" cy="5316480"/>
          </a:xfrm>
          <a:prstGeom prst="rect">
            <a:avLst/>
          </a:prstGeom>
          <a:ln w="0">
            <a:noFill/>
          </a:ln>
        </p:spPr>
      </p:pic>
      <p:pic>
        <p:nvPicPr>
          <p:cNvPr id="137" name="Afbeelding 14" descr="272437_PP_Presentatie_Page_1.jpg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205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7" descr="BannerESFTender2"/>
          <p:cNvPicPr/>
          <p:nvPr/>
        </p:nvPicPr>
        <p:blipFill>
          <a:blip r:embed="rId3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sp>
        <p:nvSpPr>
          <p:cNvPr id="139" name="Rechthoek 6"/>
          <p:cNvSpPr/>
          <p:nvPr/>
        </p:nvSpPr>
        <p:spPr>
          <a:xfrm>
            <a:off x="108000" y="1268280"/>
            <a:ext cx="187164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1763640" y="1413000"/>
            <a:ext cx="438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GTB in Oost-Vlaa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Minnemeer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9000 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09/269 46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info.ovl</a:t>
            </a:r>
            <a:r>
              <a:rPr b="0" lang="nl-BE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@</a:t>
            </a:r>
            <a:r>
              <a:rPr b="0" lang="nl-BE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gtb-vlaandere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Diversiteit van mensen </a:t>
            </a:r>
            <a:br>
              <a:rPr sz="4000"/>
            </a:b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met een handi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Even divers als de diversiteit tussen de modale mens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Naar aard en gradat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motorische functiebeperking, rolstoel, krukke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visuele beperking met gradatie van slechtziendheid tot volledige blindheid, lichtschuw versus lichtminn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auditieve handcciap, slechthorend, met implantaat tot volledige doof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Personen met verstandelijke beperking in al zijn grad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Maar ook bv. personen met MS waarvan de ziekte evolueert naar handicap, mensen met autismespectrum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Combinatie van verschillende vormen van functiebeperking bv. visuele met auditieve beperking, een verstandelijke handicap met epilepsie, psychische beperking…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Vanaf moment verwerven van handicap: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geboorte, evolutief of verworven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"/>
              </a:rPr>
              <a:t>Zichtbaar of onzichtb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Gespecialiseerde Opleidings-, Begeleidings- en Bemiddelingsdiensten (GOB)</a:t>
            </a: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UCBO - JOB &amp; CO - Brailleliga</a:t>
            </a:r>
            <a:r>
              <a:rPr b="0" lang="en-GB" sz="4400" spc="-1" strike="noStrike">
                <a:solidFill>
                  <a:srgbClr val="558ed5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7" descr="BannerESFTender2"/>
          <p:cNvPicPr/>
          <p:nvPr/>
        </p:nvPicPr>
        <p:blipFill>
          <a:blip r:embed="rId1"/>
          <a:stretch/>
        </p:blipFill>
        <p:spPr>
          <a:xfrm>
            <a:off x="0" y="5950080"/>
            <a:ext cx="58467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hthoek 10"/>
          <p:cNvSpPr/>
          <p:nvPr/>
        </p:nvSpPr>
        <p:spPr>
          <a:xfrm>
            <a:off x="6588000" y="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fbeelding 11" descr="JC-Q-COMBILOGO.bmp"/>
          <p:cNvPicPr/>
          <p:nvPr/>
        </p:nvPicPr>
        <p:blipFill>
          <a:blip r:embed="rId1"/>
          <a:stretch/>
        </p:blipFill>
        <p:spPr>
          <a:xfrm>
            <a:off x="7020000" y="189000"/>
            <a:ext cx="1765080" cy="922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66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558ed5"/>
                </a:solidFill>
                <a:latin typeface="Arial"/>
              </a:rPr>
              <a:t>Job &amp; Co : GOB werking</a:t>
            </a:r>
            <a:r>
              <a:rPr b="0" lang="nl-BE" sz="2800" spc="-1" strike="noStrike">
                <a:solidFill>
                  <a:srgbClr val="558ed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n the job training &amp; bemidd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: voor elk bero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: voor elke arbeidshandica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werkzoekenden met A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werknemers met 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werkgevers van Pm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ntennepunten in GENT 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n Aalst – Lokeren - St Nikla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ntegrale ondersteuning Pm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voor - tijdens - na aanwer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7020000" y="3357720"/>
            <a:ext cx="1509480" cy="1522080"/>
          </a:xfrm>
          <a:prstGeom prst="ellipse">
            <a:avLst/>
          </a:prstGeom>
          <a:gradFill rotWithShape="0">
            <a:gsLst>
              <a:gs pos="0">
                <a:srgbClr val="d62131"/>
              </a:gs>
              <a:gs pos="100000">
                <a:srgbClr val="d728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 zo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7020000" y="1773360"/>
            <a:ext cx="1509480" cy="1522440"/>
          </a:xfrm>
          <a:prstGeom prst="ellipse">
            <a:avLst/>
          </a:prstGeom>
          <a:solidFill>
            <a:srgbClr val="65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7020000" y="5013360"/>
            <a:ext cx="1509480" cy="1522440"/>
          </a:xfrm>
          <a:prstGeom prst="ellipse">
            <a:avLst/>
          </a:prstGeom>
          <a:solidFill>
            <a:srgbClr val="ffd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mensen met een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7" descr="BannerESFTender2"/>
          <p:cNvPicPr/>
          <p:nvPr/>
        </p:nvPicPr>
        <p:blipFill>
          <a:blip r:embed="rId2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7" descr="BannerESFTender2"/>
          <p:cNvPicPr/>
          <p:nvPr/>
        </p:nvPicPr>
        <p:blipFill>
          <a:blip r:embed="rId3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51" name="Ondertitel 11"/>
          <p:cNvSpPr/>
          <p:nvPr/>
        </p:nvSpPr>
        <p:spPr>
          <a:xfrm>
            <a:off x="324000" y="2133720"/>
            <a:ext cx="669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58ed5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10"/>
          <p:cNvSpPr/>
          <p:nvPr/>
        </p:nvSpPr>
        <p:spPr>
          <a:xfrm>
            <a:off x="6588000" y="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Afbeelding 11" descr="JC-Q-COMBILOGO.bmp"/>
          <p:cNvPicPr/>
          <p:nvPr/>
        </p:nvPicPr>
        <p:blipFill>
          <a:blip r:embed="rId1"/>
          <a:stretch/>
        </p:blipFill>
        <p:spPr>
          <a:xfrm>
            <a:off x="7020000" y="189000"/>
            <a:ext cx="1765080" cy="922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66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558ed5"/>
                </a:solidFill>
                <a:latin typeface="Arial"/>
              </a:rPr>
              <a:t>Job&amp;Co expertise uitbouw 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Jobcoaching nieuwe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Taalcoach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ectorexpertise voeding– schoonma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ormingen/trainingen op ma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n werkzoeke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an 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voor werkgevers/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7020000" y="3357720"/>
            <a:ext cx="1509480" cy="1522080"/>
          </a:xfrm>
          <a:prstGeom prst="ellipse">
            <a:avLst/>
          </a:prstGeom>
          <a:gradFill rotWithShape="0">
            <a:gsLst>
              <a:gs pos="0">
                <a:srgbClr val="d62131"/>
              </a:gs>
              <a:gs pos="100000">
                <a:srgbClr val="d728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 zo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7020000" y="1773360"/>
            <a:ext cx="1509480" cy="1522440"/>
          </a:xfrm>
          <a:prstGeom prst="ellipse">
            <a:avLst/>
          </a:prstGeom>
          <a:solidFill>
            <a:srgbClr val="65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7020000" y="5013360"/>
            <a:ext cx="1509480" cy="1522440"/>
          </a:xfrm>
          <a:prstGeom prst="ellipse">
            <a:avLst/>
          </a:prstGeom>
          <a:solidFill>
            <a:srgbClr val="ffd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mensen met een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7" descr="BannerESFTender2"/>
          <p:cNvPicPr/>
          <p:nvPr/>
        </p:nvPicPr>
        <p:blipFill>
          <a:blip r:embed="rId2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7" descr="BannerESFTender2"/>
          <p:cNvPicPr/>
          <p:nvPr/>
        </p:nvPicPr>
        <p:blipFill>
          <a:blip r:embed="rId3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60" name="Ondertitel 11"/>
          <p:cNvSpPr/>
          <p:nvPr/>
        </p:nvSpPr>
        <p:spPr>
          <a:xfrm>
            <a:off x="324000" y="2133720"/>
            <a:ext cx="669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58ed5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hthoek 10"/>
          <p:cNvSpPr/>
          <p:nvPr/>
        </p:nvSpPr>
        <p:spPr>
          <a:xfrm>
            <a:off x="6588000" y="0"/>
            <a:ext cx="2556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Afbeelding 11" descr="JC-Q-COMBILOGO.bmp"/>
          <p:cNvPicPr/>
          <p:nvPr/>
        </p:nvPicPr>
        <p:blipFill>
          <a:blip r:embed="rId1"/>
          <a:stretch/>
        </p:blipFill>
        <p:spPr>
          <a:xfrm>
            <a:off x="7020000" y="189000"/>
            <a:ext cx="1765080" cy="922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558ed5"/>
                </a:solidFill>
                <a:latin typeface="Arial"/>
              </a:rPr>
              <a:t>Job &amp; Co GOB contactgegev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twerpsesteenweg 573 – 9040 G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09/266 18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lgemeen  : Ann Body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OB Gent : Annemie Merckx - Ingrid 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en maandag tot vrijdag, 8.30u- 16.30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obenco.b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-mail : info@jobenco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7020000" y="3357720"/>
            <a:ext cx="1509480" cy="1522080"/>
          </a:xfrm>
          <a:prstGeom prst="ellipse">
            <a:avLst/>
          </a:prstGeom>
          <a:gradFill rotWithShape="0">
            <a:gsLst>
              <a:gs pos="0">
                <a:srgbClr val="d62131"/>
              </a:gs>
              <a:gs pos="100000">
                <a:srgbClr val="d7283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 zo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7020000" y="1773360"/>
            <a:ext cx="1509480" cy="1522440"/>
          </a:xfrm>
          <a:prstGeom prst="ellipse">
            <a:avLst/>
          </a:prstGeom>
          <a:solidFill>
            <a:srgbClr val="6589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wie we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7020000" y="5013360"/>
            <a:ext cx="1509480" cy="1522440"/>
          </a:xfrm>
          <a:prstGeom prst="ellipse">
            <a:avLst/>
          </a:prstGeom>
          <a:solidFill>
            <a:srgbClr val="ffd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Calibri"/>
              </a:rPr>
              <a:t>Voor mensen met een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7" descr="BannerESFTender2"/>
          <p:cNvPicPr/>
          <p:nvPr/>
        </p:nvPicPr>
        <p:blipFill>
          <a:blip r:embed="rId3"/>
          <a:stretch/>
        </p:blipFill>
        <p:spPr>
          <a:xfrm>
            <a:off x="0" y="6280200"/>
            <a:ext cx="4680000" cy="577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7" descr="BannerESFTender2"/>
          <p:cNvPicPr/>
          <p:nvPr/>
        </p:nvPicPr>
        <p:blipFill>
          <a:blip r:embed="rId4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69" name="Ondertitel 11"/>
          <p:cNvSpPr/>
          <p:nvPr/>
        </p:nvSpPr>
        <p:spPr>
          <a:xfrm>
            <a:off x="324000" y="2133720"/>
            <a:ext cx="669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58ed5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huisstijl.ugent.be/elementen/logo/basic/logo.jpg"/>
          <p:cNvPicPr/>
          <p:nvPr/>
        </p:nvPicPr>
        <p:blipFill>
          <a:blip r:embed="rId1"/>
          <a:stretch/>
        </p:blipFill>
        <p:spPr>
          <a:xfrm>
            <a:off x="7429680" y="5526000"/>
            <a:ext cx="1571400" cy="1112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324000" y="3213000"/>
            <a:ext cx="8424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Het UCBO begeleidt PmAH naar passend en duurzaam werk, in de eerste plaats op de open arbeidsmark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Opleiding in het centrum voor administratief medewerker, tuinbouw (initiatie), manuele beroepen </a:t>
            </a:r>
            <a:br>
              <a:rPr sz="2600"/>
            </a:b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(initiat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Arial"/>
              </a:rPr>
              <a:t>Stages en coaching op de werkvloer voor alle    beroepen; GI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108000" y="1052640"/>
            <a:ext cx="6227280" cy="1988640"/>
            <a:chOff x="108000" y="1052640"/>
            <a:chExt cx="6227280" cy="1988640"/>
          </a:xfrm>
        </p:grpSpPr>
        <p:pic>
          <p:nvPicPr>
            <p:cNvPr id="174" name="Picture 11" descr="ADM smartklas2"/>
            <p:cNvPicPr/>
            <p:nvPr/>
          </p:nvPicPr>
          <p:blipFill>
            <a:blip r:embed="rId2"/>
            <a:stretch/>
          </p:blipFill>
          <p:spPr>
            <a:xfrm>
              <a:off x="108000" y="1057680"/>
              <a:ext cx="136908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2" descr="MB slijpen"/>
            <p:cNvPicPr/>
            <p:nvPr/>
          </p:nvPicPr>
          <p:blipFill>
            <a:blip r:embed="rId3"/>
            <a:stretch/>
          </p:blipFill>
          <p:spPr>
            <a:xfrm>
              <a:off x="3893760" y="1052640"/>
              <a:ext cx="2441520" cy="198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27" descr="BannerESFTender2"/>
          <p:cNvPicPr/>
          <p:nvPr/>
        </p:nvPicPr>
        <p:blipFill>
          <a:blip r:embed="rId4"/>
          <a:stretch/>
        </p:blipFill>
        <p:spPr>
          <a:xfrm>
            <a:off x="0" y="6165720"/>
            <a:ext cx="5219640" cy="644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TB kruiwagen"/>
          <p:cNvPicPr/>
          <p:nvPr/>
        </p:nvPicPr>
        <p:blipFill>
          <a:blip r:embed="rId5"/>
          <a:stretch/>
        </p:blipFill>
        <p:spPr>
          <a:xfrm>
            <a:off x="1542960" y="1047600"/>
            <a:ext cx="2316240" cy="2000520"/>
          </a:xfrm>
          <a:prstGeom prst="rect">
            <a:avLst/>
          </a:prstGeom>
          <a:ln w="0">
            <a:noFill/>
          </a:ln>
        </p:spPr>
      </p:pic>
      <p:sp>
        <p:nvSpPr>
          <p:cNvPr id="178" name="Rechthoek 14"/>
          <p:cNvSpPr/>
          <p:nvPr/>
        </p:nvSpPr>
        <p:spPr>
          <a:xfrm>
            <a:off x="6588000" y="0"/>
            <a:ext cx="255600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7236000" y="115920"/>
            <a:ext cx="1476360" cy="1563480"/>
            <a:chOff x="7236000" y="115920"/>
            <a:chExt cx="1476360" cy="1563480"/>
          </a:xfrm>
        </p:grpSpPr>
        <p:sp>
          <p:nvSpPr>
            <p:cNvPr id="180" name="Rectangle 7"/>
            <p:cNvSpPr/>
            <p:nvPr/>
          </p:nvSpPr>
          <p:spPr>
            <a:xfrm>
              <a:off x="7236000" y="115920"/>
              <a:ext cx="1476360" cy="156348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8" descr="ucbo"/>
            <p:cNvPicPr/>
            <p:nvPr/>
          </p:nvPicPr>
          <p:blipFill>
            <a:blip r:embed="rId6"/>
            <a:stretch/>
          </p:blipFill>
          <p:spPr>
            <a:xfrm>
              <a:off x="7345800" y="191880"/>
              <a:ext cx="1239840" cy="140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huisstijl.ugent.be/elementen/logo/basic/logo.jpg"/>
          <p:cNvPicPr/>
          <p:nvPr/>
        </p:nvPicPr>
        <p:blipFill>
          <a:blip r:embed="rId1"/>
          <a:stretch/>
        </p:blipFill>
        <p:spPr>
          <a:xfrm>
            <a:off x="7292880" y="5429160"/>
            <a:ext cx="1708200" cy="1209600"/>
          </a:xfrm>
          <a:prstGeom prst="rect">
            <a:avLst/>
          </a:prstGeom>
          <a:ln w="0">
            <a:noFill/>
          </a:ln>
        </p:spPr>
      </p:pic>
      <p:sp>
        <p:nvSpPr>
          <p:cNvPr id="183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11280" y="1197000"/>
            <a:ext cx="731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Calibri"/>
              </a:rPr>
              <a:t>Specifieke expertise vo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55640" y="1989000"/>
            <a:ext cx="78487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ersonen met NAH (Niet-Aangeboren Hersenlet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ersonen met ASS (AutismeSpectrumStoorn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Doven en slechthoren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Personen met een psychische problemat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</a:rPr>
              <a:t>Begeleiding bij reïntegratie van werknemers die (dreigen) uit (te) vallen (Disability Case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7" descr="BannerESFTender2"/>
          <p:cNvPicPr/>
          <p:nvPr/>
        </p:nvPicPr>
        <p:blipFill>
          <a:blip r:embed="rId2"/>
          <a:stretch/>
        </p:blipFill>
        <p:spPr>
          <a:xfrm>
            <a:off x="0" y="6093000"/>
            <a:ext cx="6192720" cy="765000"/>
          </a:xfrm>
          <a:prstGeom prst="rect">
            <a:avLst/>
          </a:prstGeom>
          <a:ln w="0">
            <a:noFill/>
          </a:ln>
        </p:spPr>
      </p:pic>
      <p:sp>
        <p:nvSpPr>
          <p:cNvPr id="187" name="Rechthoek 14"/>
          <p:cNvSpPr/>
          <p:nvPr/>
        </p:nvSpPr>
        <p:spPr>
          <a:xfrm>
            <a:off x="6659640" y="0"/>
            <a:ext cx="248436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7236000" y="115920"/>
            <a:ext cx="1476360" cy="1563480"/>
            <a:chOff x="7236000" y="115920"/>
            <a:chExt cx="1476360" cy="1563480"/>
          </a:xfrm>
        </p:grpSpPr>
        <p:sp>
          <p:nvSpPr>
            <p:cNvPr id="189" name="Rectangle 7"/>
            <p:cNvSpPr/>
            <p:nvPr/>
          </p:nvSpPr>
          <p:spPr>
            <a:xfrm>
              <a:off x="7236000" y="115920"/>
              <a:ext cx="1476360" cy="156348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Picture 8" descr="ucbo"/>
            <p:cNvPicPr/>
            <p:nvPr/>
          </p:nvPicPr>
          <p:blipFill>
            <a:blip r:embed="rId3"/>
            <a:stretch/>
          </p:blipFill>
          <p:spPr>
            <a:xfrm>
              <a:off x="7345800" y="191880"/>
              <a:ext cx="1239840" cy="140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www.huisstijl.ugent.be/elementen/logo/basic/logo.jpg"/>
          <p:cNvPicPr/>
          <p:nvPr/>
        </p:nvPicPr>
        <p:blipFill>
          <a:blip r:embed="rId1"/>
          <a:stretch/>
        </p:blipFill>
        <p:spPr>
          <a:xfrm>
            <a:off x="7292880" y="5429160"/>
            <a:ext cx="1708200" cy="1209600"/>
          </a:xfrm>
          <a:prstGeom prst="rect">
            <a:avLst/>
          </a:prstGeom>
          <a:ln w="0">
            <a:noFill/>
          </a:ln>
        </p:spPr>
      </p:pic>
      <p:sp>
        <p:nvSpPr>
          <p:cNvPr id="192" name="Rechthoek 12"/>
          <p:cNvSpPr/>
          <p:nvPr/>
        </p:nvSpPr>
        <p:spPr>
          <a:xfrm>
            <a:off x="8786880" y="6500880"/>
            <a:ext cx="357120" cy="357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7" descr="BannerESFTender2"/>
          <p:cNvPicPr/>
          <p:nvPr/>
        </p:nvPicPr>
        <p:blipFill>
          <a:blip r:embed="rId2"/>
          <a:stretch/>
        </p:blipFill>
        <p:spPr>
          <a:xfrm>
            <a:off x="0" y="6093000"/>
            <a:ext cx="5651640" cy="698400"/>
          </a:xfrm>
          <a:prstGeom prst="rect">
            <a:avLst/>
          </a:prstGeom>
          <a:ln w="0">
            <a:noFill/>
          </a:ln>
        </p:spPr>
      </p:pic>
      <p:sp>
        <p:nvSpPr>
          <p:cNvPr id="194" name="Ondertitel 11"/>
          <p:cNvSpPr/>
          <p:nvPr/>
        </p:nvSpPr>
        <p:spPr>
          <a:xfrm>
            <a:off x="900000" y="2276640"/>
            <a:ext cx="44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Begijnhoflaan 46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9000 G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09/331 03 3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info@ucbo.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700" spc="-1" strike="noStrike">
                <a:solidFill>
                  <a:srgbClr val="000000"/>
                </a:solidFill>
                <a:latin typeface="Calibri"/>
              </a:rPr>
              <a:t>www.ucbo.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ragen en info bij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yriam Car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2060"/>
                </a:solidFill>
                <a:latin typeface="Calibri"/>
              </a:rPr>
              <a:t>Myriam.Carlier@ugent.b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2060"/>
                </a:solidFill>
                <a:latin typeface="Calibri"/>
              </a:rPr>
              <a:t>09/331 03 48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4360" y="1268280"/>
            <a:ext cx="73152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Contactgegevens UCB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15"/>
          <p:cNvSpPr/>
          <p:nvPr/>
        </p:nvSpPr>
        <p:spPr>
          <a:xfrm>
            <a:off x="6588000" y="0"/>
            <a:ext cx="2556000" cy="19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6"/>
          <p:cNvGrpSpPr/>
          <p:nvPr/>
        </p:nvGrpSpPr>
        <p:grpSpPr>
          <a:xfrm>
            <a:off x="7236000" y="115920"/>
            <a:ext cx="1476360" cy="1563480"/>
            <a:chOff x="7236000" y="115920"/>
            <a:chExt cx="1476360" cy="1563480"/>
          </a:xfrm>
        </p:grpSpPr>
        <p:sp>
          <p:nvSpPr>
            <p:cNvPr id="198" name="Rectangle 7"/>
            <p:cNvSpPr/>
            <p:nvPr/>
          </p:nvSpPr>
          <p:spPr>
            <a:xfrm>
              <a:off x="7236000" y="115920"/>
              <a:ext cx="1476360" cy="1563480"/>
            </a:xfrm>
            <a:prstGeom prst="rect">
              <a:avLst/>
            </a:prstGeom>
            <a:solidFill>
              <a:srgbClr val="0a1e6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8" descr="ucbo"/>
            <p:cNvPicPr/>
            <p:nvPr/>
          </p:nvPicPr>
          <p:blipFill>
            <a:blip r:embed="rId3"/>
            <a:stretch/>
          </p:blipFill>
          <p:spPr>
            <a:xfrm>
              <a:off x="7345800" y="191880"/>
              <a:ext cx="1239840" cy="1400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692280"/>
            <a:ext cx="780912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B BRAILLELI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9120" cy="34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NIEK GOB binnen het netwerk van GOB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kel voor mensen met een visuele handicap vanuit heel Vla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erke individuele begel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xpertise op gebied van visuele problemat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692280"/>
            <a:ext cx="780912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2320" y="1958760"/>
            <a:ext cx="7809120" cy="30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oor verdere info kan u terecht bij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GOB Braillel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gelandstraat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060 Bru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02/ 533 33 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Opleidings- en begeleidingsdienst voor  </a:t>
            </a: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kansengroepen, o.a. PmAH:</a:t>
            </a:r>
            <a:br>
              <a:rPr sz="4000"/>
            </a:br>
            <a:r>
              <a:rPr b="0" lang="en-GB" sz="4000" spc="-1" strike="noStrike">
                <a:solidFill>
                  <a:srgbClr val="558ed5"/>
                </a:solidFill>
                <a:latin typeface="Arial"/>
              </a:rPr>
              <a:t>Groep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7" descr="BannerESFTender2"/>
          <p:cNvPicPr/>
          <p:nvPr/>
        </p:nvPicPr>
        <p:blipFill>
          <a:blip r:embed="rId1"/>
          <a:stretch/>
        </p:blipFill>
        <p:spPr>
          <a:xfrm>
            <a:off x="0" y="5950080"/>
            <a:ext cx="584676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voettekst 4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Enkele cij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411280" y="2637000"/>
          <a:ext cx="4824720" cy="2658960"/>
        </p:xfrm>
        <a:graphic>
          <a:graphicData uri="http://schemas.openxmlformats.org/drawingml/2006/table">
            <a:tbl>
              <a:tblPr/>
              <a:tblGrid>
                <a:gridCol w="2019600"/>
                <a:gridCol w="28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derale over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amse over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d 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8"/>
          <p:cNvSpPr/>
          <p:nvPr/>
        </p:nvSpPr>
        <p:spPr>
          <a:xfrm>
            <a:off x="684360" y="1341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eefcijfer PMAH in 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hthoek 6"/>
          <p:cNvSpPr/>
          <p:nvPr/>
        </p:nvSpPr>
        <p:spPr>
          <a:xfrm>
            <a:off x="6516720" y="0"/>
            <a:ext cx="262728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5"/>
          <p:cNvSpPr/>
          <p:nvPr/>
        </p:nvSpPr>
        <p:spPr>
          <a:xfrm>
            <a:off x="6516720" y="115920"/>
            <a:ext cx="2519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BE" sz="2400" spc="-1" strike="noStrike">
                <a:solidFill>
                  <a:srgbClr val="666666"/>
                </a:solidFill>
                <a:latin typeface="Arial"/>
              </a:rPr>
              <a:t>Groep INTRO vzw </a:t>
            </a:r>
            <a:br>
              <a:rPr sz="2400"/>
            </a:br>
            <a:r>
              <a:rPr b="1" lang="nl-BE" sz="1400" spc="-1" strike="noStrike">
                <a:solidFill>
                  <a:srgbClr val="666666"/>
                </a:solidFill>
                <a:latin typeface="Arial"/>
              </a:rPr>
              <a:t>vorming, onderwijs, opleiding, trajectbegeleiding, jobcoaching,werkervaring en sociale economie, ook voor PmA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SWITCH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9 we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opleiding tot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iemedewerker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in een BW, SW of het NEC (inpak, mailing, serrewerk ,  grootkeukenwer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 6 weken sociale en beroepstechnische vaardighe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 2 weken stage  en  1 week sollicitatie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 in </a:t>
            </a:r>
            <a:r>
              <a:rPr b="0" lang="nl-B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alst, Ronse en Gent 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(mits ruim op voorhand een groep voorzien wordt, kan het ook doorgaan in Waasland of Meetjes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ADOORA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9 we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opleiding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itvoerend administratief bedie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6 weken sociale en beroepstechnische vaardigheden, o.a.: informatica, taal NL, bedrijfsbeheer, dactylo, sociale wetge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2 weken stage en  1 week sollicitatie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-&gt; in </a:t>
            </a:r>
            <a:r>
              <a:rPr b="0" lang="nl-N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nt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  <a:ea typeface="Arial"/>
              </a:rPr>
              <a:t>JOBCOACH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nl-B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geleiding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 op de werkvloer van een nieuwe </a:t>
            </a:r>
            <a:r>
              <a:rPr b="0" lang="nl-B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erknemer en zijn/haar werkgever </a:t>
            </a:r>
            <a:r>
              <a:rPr b="0" lang="nl-BE" sz="1400" spc="-1" strike="noStrike">
                <a:solidFill>
                  <a:srgbClr val="000000"/>
                </a:solidFill>
                <a:latin typeface="Arial"/>
                <a:ea typeface="Arial"/>
              </a:rPr>
              <a:t>(enkel NEC) door een bedrijfsexterne c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395720" cy="647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7" descr="BannerESFTender2"/>
          <p:cNvPicPr/>
          <p:nvPr/>
        </p:nvPicPr>
        <p:blipFill>
          <a:blip r:embed="rId2"/>
          <a:stretch/>
        </p:blipFill>
        <p:spPr>
          <a:xfrm>
            <a:off x="0" y="6021360"/>
            <a:ext cx="579600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3573360"/>
            <a:ext cx="81867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nnemie Vandenhende - Teamverantwoordelij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Nekkersputstraat 189 A – 9000 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09 210 77 77 of 0499 533 7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Annemie.Vandenhende@groepintro.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7" descr="BannerESFTender2"/>
          <p:cNvPicPr/>
          <p:nvPr/>
        </p:nvPicPr>
        <p:blipFill>
          <a:blip r:embed="rId1"/>
          <a:stretch/>
        </p:blipFill>
        <p:spPr>
          <a:xfrm>
            <a:off x="0" y="6093000"/>
            <a:ext cx="5867280" cy="725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397160" cy="647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684360" y="2492280"/>
            <a:ext cx="6767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66666"/>
                </a:solidFill>
                <a:latin typeface="Calibri"/>
              </a:rPr>
              <a:t>Contactgegevens Gent</a:t>
            </a:r>
            <a:r>
              <a:rPr b="0" lang="nl-NL" sz="2800" spc="-1" strike="noStrike">
                <a:solidFill>
                  <a:srgbClr val="66666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hthoek 8"/>
          <p:cNvSpPr/>
          <p:nvPr/>
        </p:nvSpPr>
        <p:spPr>
          <a:xfrm>
            <a:off x="6516720" y="0"/>
            <a:ext cx="2627280" cy="20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39572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voettekst 4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Gents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+10% van de bevolking heeft een handi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Op een bevolking van 243.140 personen gaat dit over 24.314 pers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Gent is 4de tot 5de grootste werkgever in de r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492360" y="1341360"/>
          <a:ext cx="5112000" cy="4900680"/>
        </p:xfrm>
        <a:graphic>
          <a:graphicData uri="http://schemas.openxmlformats.org/drawingml/2006/table">
            <a:tbl>
              <a:tblPr/>
              <a:tblGrid>
                <a:gridCol w="3024360"/>
                <a:gridCol w="208764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ta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tal personeelsleden in stad 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1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TE: 43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uit evenredi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eidsparticip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efcij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ealit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r. enquête 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gistreerde PM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p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st we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(Zie aparte tab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sche problemati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kl gro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4000" y="189000"/>
          <a:ext cx="8291520" cy="5452920"/>
        </p:xfrm>
        <a:graphic>
          <a:graphicData uri="http://schemas.openxmlformats.org/drawingml/2006/table">
            <a:tbl>
              <a:tblPr/>
              <a:tblGrid>
                <a:gridCol w="2160360"/>
                <a:gridCol w="1366920"/>
                <a:gridCol w="1944720"/>
                <a:gridCol w="1008000"/>
                <a:gridCol w="18115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Arbe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handi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en arbe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ndi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erwerkbedrij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arvan 4 B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ug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333399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arvan 3 B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artba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arvan 4 B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4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3"/>
          <p:cNvSpPr/>
          <p:nvPr/>
        </p:nvSpPr>
        <p:spPr>
          <a:xfrm>
            <a:off x="468360" y="5877000"/>
            <a:ext cx="79930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Investing in your future” Cross border Cooperation Programme 2007 – 2013 Part –financed by the European Union (European Regional Development Fund  – ERD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Werkgroep </a:t>
            </a:r>
            <a:br>
              <a:rPr sz="4000"/>
            </a:br>
            <a:r>
              <a:rPr b="0" lang="nl-BE" sz="4000" spc="-1" strike="noStrike">
                <a:solidFill>
                  <a:srgbClr val="333399"/>
                </a:solidFill>
                <a:latin typeface="Arial"/>
              </a:rPr>
              <a:t>Personen met Handi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el: voorstellen doen 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Groter aantal personen met een handicap tewerk te stellen in de s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oorstroming te verbet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Begeleiding aan PMAH te optim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Int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Nathalie Rainchon en Jean Claude 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De Clerc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Joost Muss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Tom van Dijck en Elke De D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Afvaardiging R&amp;S (Stefan Vanbroeckhoven), FM (Paul Claeys), Bart Stichelmans (Digipolis), IDPBW (Sandra de Clercq), Vorming (Hilde Sturtewa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333399"/>
                </a:solidFill>
                <a:latin typeface="Arial"/>
              </a:rPr>
              <a:t>Aanbod toel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yriam Car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Coördinator Opleidingen UC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09:22:31Z</dcterms:created>
  <dc:creator>Digipolis</dc:creator>
  <dc:description/>
  <dc:language>en-US</dc:language>
  <cp:lastModifiedBy>Digipolis</cp:lastModifiedBy>
  <dcterms:modified xsi:type="dcterms:W3CDTF">2010-12-14T10:56:44Z</dcterms:modified>
  <cp:revision>51</cp:revision>
  <dc:subject/>
  <dc:title>Dia 1</dc:title>
</cp:coreProperties>
</file>