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457200" y="6413400"/>
            <a:ext cx="830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document reflects the author's views. The INTERREG IVA 2Seas Programme Authorities are not liable for any use that may be made of the information contained therei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6"/>
          <p:cNvSpPr/>
          <p:nvPr/>
        </p:nvSpPr>
        <p:spPr>
          <a:xfrm>
            <a:off x="457200" y="5651640"/>
            <a:ext cx="2743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vesting in your fu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ross-border Cooperation Programme 2007-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t-financed by the European Union (European Regional Development Fu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4920" y="4846680"/>
            <a:ext cx="8534160" cy="79200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1628640"/>
            <a:ext cx="6409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ckling Social Exclusion </a:t>
            </a:r>
            <a:br>
              <a:rPr sz="40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y examining, testing and </a:t>
            </a:r>
            <a:br>
              <a:rPr sz="2800"/>
            </a:b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mproving service qualit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333360"/>
            <a:ext cx="86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Facts and figures on poverty and social ex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528920"/>
            <a:ext cx="849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m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nic min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333360"/>
            <a:ext cx="86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Facts and figures on poverty and social ex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528920"/>
            <a:ext cx="8497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/ 5th of the population has an income &lt; 10.000€ / year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,5 / 1000 persons live on welfare (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333360"/>
            <a:ext cx="86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Facts and figures on poverty and social ex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528920"/>
            <a:ext cx="849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roups that are hard to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grants without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me- and rooflessn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333360"/>
            <a:ext cx="86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Facts and figures on poverty and social ex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528920"/>
            <a:ext cx="849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equality in education, health and ho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% of births in in underprivileged families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¼ of the students has at least a 1 year delay in the 5th year of primary school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,3% social housing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oodparcels: +15 % (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Unit combating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April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Cooperation between the City of Ghent and the Public Social Welfar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Link with local social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Focus is 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Involvement of the target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Screening of own policy and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Access to culture, sports and youth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Week against 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European year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Involvement of the 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Support and Dialo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Covenants on dialogue with organisations of people experiencing 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Providing in basic needs (food, clot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Shelter for home- and roofless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Consul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Calibri"/>
              </a:rPr>
              <a:t>Screening of own Policy and Proced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City of Ghent and Public Social Welfar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Work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In ad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Accessibility: removing as many obstacles as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Calibri"/>
              </a:rPr>
              <a:t>Acces to Culture, Sports and Youth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Cooperation between the City of Ghent, the Public Social Welfare Centre and social organ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Stimulating the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Different a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Reducing the financial b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Week against Pov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October 17th, World day to overcome extreme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To raise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Stimulating initi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uropean Year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European Year for Combating Poverty and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Belgian Presid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Euro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Report on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United Nations Millenium Development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333360"/>
            <a:ext cx="86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Facts and figures on poverty and social ex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528920"/>
            <a:ext cx="8497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m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roups that are hard to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equality in education, health and ho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oodparc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0:07:46Z</dcterms:created>
  <dc:creator>SCC</dc:creator>
  <dc:description/>
  <dc:language>en-US</dc:language>
  <cp:lastModifiedBy>digipolis</cp:lastModifiedBy>
  <dcterms:modified xsi:type="dcterms:W3CDTF">2009-11-20T12:14:56Z</dcterms:modified>
  <cp:revision>14</cp:revision>
  <dc:subject/>
  <dc:title>Tackling Social Exclusion 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57314269</vt:r8>
  </property>
  <property fmtid="{D5CDD505-2E9C-101B-9397-08002B2CF9AE}" pid="3" name="_AuthorEmail">
    <vt:lpwstr>Eric.Dirikx@Gent.be</vt:lpwstr>
  </property>
  <property fmtid="{D5CDD505-2E9C-101B-9397-08002B2CF9AE}" pid="4" name="_AuthorEmailDisplayName">
    <vt:lpwstr>Dirikx Eric</vt:lpwstr>
  </property>
  <property fmtid="{D5CDD505-2E9C-101B-9397-08002B2CF9AE}" pid="5" name="_EmailSubject">
    <vt:lpwstr>RE: </vt:lpwstr>
  </property>
  <property fmtid="{D5CDD505-2E9C-101B-9397-08002B2CF9AE}" pid="6" name="_PreviousAdHocReviewCycleID">
    <vt:r8>221464335</vt:r8>
  </property>
</Properties>
</file>