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699750" cy="7581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DC9-9FBC-4512-AD4A-2F7D6F68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03440" y="4395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DBD-6073-4878-BF3F-32D21133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8788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911-AA01-45B6-9D02-D29D8D0B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9676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38972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0344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49676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38972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A1B-AD9D-431D-BD9F-F5B6576D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DDF1-A9AB-44EB-B13F-8BD1A522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D211-1D06-49E2-9CD4-AF9854CF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4C1E-4B84-43BF-8A61-904D3940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E1F0-20CF-4CA8-9EA1-4C0A9A05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89FF-9407-45BD-8682-A1F1E2F5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603440" y="333360"/>
            <a:ext cx="855648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D70D-09EB-47E4-92CC-B3EF1D31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5FAA-5A57-4678-B9E1-DB78720F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C10-BC54-4172-96BC-D1E13A7F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8788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C193-16A1-4553-9B3D-71CE585B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B483-17A7-457F-8608-37781595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603440" y="4395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E78D-C64E-4EA2-906C-B9BD3B66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98788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D17B-5D91-4CC0-89C9-DDAC89CB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9676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972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60344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49676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972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FF26-F670-41EC-A364-5A93B3D0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85F4-51B5-41BA-AB3D-2AB91F01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80AC4-6764-4C0F-B91D-AF21C4D3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EC4F-BCC4-4055-BE3E-AE1C88AD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C0EE-49EB-4E92-84AA-BBB200BA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9D1B-0BF8-4632-A65C-E533A6FC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503-B4F6-4785-8519-F83FC1D9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603440" y="333360"/>
            <a:ext cx="855648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84136-F291-4403-856F-7157A94D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0F96E-B6BF-4C67-9E06-911001E4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788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C3A3-C7F5-41A9-BD3C-6F5E424F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797E-04A6-441C-97D2-71DD01D1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603440" y="4395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A3998-2247-4214-ADD0-910CF616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98788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0E736-0FA2-486F-8206-F394815B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9676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38972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60344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49676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738972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3FE7-3EEC-4B03-980F-0FADD496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8E9-5C10-4550-AF64-DFC4084F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B03-0AFB-43E7-A2FE-3F16832A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03440" y="333360"/>
            <a:ext cx="855648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07C-3F30-4070-A9DB-D93A7147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DBB3-9037-4DCB-AB6E-E446E914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8788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6E3-ECB7-4A9B-AEC6-5D6C3649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A6D-C8F2-4B5C-BDCD-EA26596C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2820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767960"/>
            <a:ext cx="9628200" cy="500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-392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68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901920"/>
            <a:ext cx="2495520" cy="527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4000" y="6901920"/>
            <a:ext cx="3389400" cy="527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7640" y="6901920"/>
            <a:ext cx="2495520" cy="527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fld id="{CC90992D-37D1-44AF-8619-BA929AF6E2F4}" type="slidenum"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293760" y="287280"/>
          <a:ext cx="2020680" cy="9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760" y="287280"/>
                    <a:ext cx="20206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718480" y="287280"/>
            <a:ext cx="1693800" cy="1028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47560" y="6894360"/>
            <a:ext cx="918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9160" rIns="119160" tIns="59760" bIns="59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EL ARMOEDEBESTRIJ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782720" y="1413000"/>
            <a:ext cx="71312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789360" y="0"/>
            <a:ext cx="13952160" cy="4211280"/>
            <a:chOff x="-3789360" y="0"/>
            <a:chExt cx="13952160" cy="4211280"/>
          </a:xfrm>
        </p:grpSpPr>
        <p:sp>
          <p:nvSpPr>
            <p:cNvPr id="47" name=""/>
            <p:cNvSpPr/>
            <p:nvPr/>
          </p:nvSpPr>
          <p:spPr>
            <a:xfrm>
              <a:off x="-3789360" y="757800"/>
              <a:ext cx="4813920" cy="3453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838240" y="0"/>
              <a:ext cx="3619440" cy="3486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t">
              <a:noAutofit/>
            </a:bodyPr>
            <a:p>
              <a:pPr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04160" y="1684440"/>
              <a:ext cx="85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41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849240" indent="-32688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260280">
              <a:spcBef>
                <a:spcPts val="8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3" marL="1827360" indent="-2606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4" marL="2349360" indent="-260280">
              <a:spcBef>
                <a:spcPts val="8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5" marL="2349360" indent="-26028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6" marL="2349360" indent="-26028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34960" y="6907320"/>
            <a:ext cx="2495520" cy="5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654000" y="6907320"/>
            <a:ext cx="3389400" cy="5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667640" y="6907320"/>
            <a:ext cx="2495520" cy="5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fld id="{391153E5-FE9A-4EA3-927B-7CC75354C630}" type="slidenum">
              <a:rPr b="0" lang="nl-B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3760" y="287280"/>
          <a:ext cx="2020680" cy="9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760" y="287280"/>
                    <a:ext cx="20206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718480" y="287280"/>
            <a:ext cx="1693800" cy="1028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7560" y="6894360"/>
            <a:ext cx="918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9160" rIns="119160" tIns="59760" bIns="59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EL ARMOEDEBESTRIJ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-3770280" y="336600"/>
            <a:ext cx="13933080" cy="5222520"/>
            <a:chOff x="-3770280" y="336600"/>
            <a:chExt cx="13933080" cy="5222520"/>
          </a:xfrm>
        </p:grpSpPr>
        <p:sp>
          <p:nvSpPr>
            <p:cNvPr id="96" name=""/>
            <p:cNvSpPr/>
            <p:nvPr/>
          </p:nvSpPr>
          <p:spPr>
            <a:xfrm>
              <a:off x="1693800" y="2779200"/>
              <a:ext cx="846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2941560" y="1515600"/>
              <a:ext cx="4278960" cy="40435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3770280" y="336600"/>
              <a:ext cx="4725000" cy="44643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t">
              <a:noAutofit/>
            </a:bodyPr>
            <a:p>
              <a:pPr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87680" y="1089000"/>
            <a:ext cx="8470800" cy="1596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4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534960" y="6907320"/>
            <a:ext cx="2495520" cy="5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654000" y="6907320"/>
            <a:ext cx="3389400" cy="5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7667640" y="6907320"/>
            <a:ext cx="2495520" cy="5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fld id="{FB88B4A3-5B42-40FC-8A0D-F873872F0D24}" type="slidenum">
              <a:rPr b="0" lang="nl-B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93760" y="287280"/>
          <a:ext cx="2020680" cy="9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760" y="287280"/>
                    <a:ext cx="20206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718480" y="287280"/>
            <a:ext cx="1693800" cy="1028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47560" y="6894360"/>
            <a:ext cx="918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9160" rIns="119160" tIns="59760" bIns="59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EL ARMOEDEBESTRIJ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534960" y="1774080"/>
            <a:ext cx="9628920" cy="43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522360" indent="0" algn="ctr">
              <a:spcBef>
                <a:spcPts val="726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044720" algn="ctr">
              <a:spcBef>
                <a:spcPts val="6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566720" algn="ctr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89080" algn="ctr">
              <a:spcBef>
                <a:spcPts val="550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890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890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4520" y="2278080"/>
            <a:ext cx="7643880" cy="1625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006666"/>
                </a:solidFill>
                <a:latin typeface="Arial"/>
              </a:rPr>
              <a:t>Cel Armoedebestrijding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1557360"/>
            <a:ext cx="9639360" cy="861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-838080">
              <a:buClr>
                <a:srgbClr val="0066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500" spc="-1" strike="noStrike">
                <a:solidFill>
                  <a:srgbClr val="006666"/>
                </a:solidFill>
                <a:latin typeface="Arial"/>
              </a:rPr>
              <a:t>Opvolgen beleid</a:t>
            </a:r>
            <a:br>
              <a:rPr sz="4500"/>
            </a:br>
            <a:r>
              <a:rPr b="0" lang="nl-BE" sz="45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9040" y="2206440"/>
            <a:ext cx="9628200" cy="500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Anticiperen, implementeren en communicati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Vlaam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decreet armoedebestrij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Vlaams Actieplan Armoedebestrijding 2005-200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Federaal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Federaal Plan Armoedebestrij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Europee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Euroc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25400" y="870120"/>
            <a:ext cx="962820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-838080">
              <a:buClr>
                <a:srgbClr val="0066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Projecten</a:t>
            </a:r>
            <a:br>
              <a:rPr sz="3700"/>
            </a:b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4600" y="2244240"/>
            <a:ext cx="9628200" cy="500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Week tegen Armoede 2009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Week vóór 17 oktob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Commun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Coördin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Doel = extra aandacht voor het thema armoede binnen diverse diensten en organisatie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-838080">
              <a:buClr>
                <a:srgbClr val="0066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100" spc="-1" strike="noStrike">
                <a:solidFill>
                  <a:srgbClr val="006666"/>
                </a:solidFill>
                <a:latin typeface="Arial"/>
              </a:rPr>
              <a:t>Projecten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Verdana"/>
              </a:rPr>
              <a:t>2010: Europees jaar armoedebestrij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Voorzitterschap EU 2e helft 201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Eurocities: voorstel congres gezondhei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Nationaal Actiepl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Vanuit POD: OCMW’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Verdana"/>
              </a:rPr>
              <a:t>Gent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Week tegen Armo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Nieuwe Kansarmoedeatl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Milleniumdoelstelling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Andere mogelijkheden worden verkend: Internationaal congres vakgroep Huisartsengeneeskunde en eerstelijnsgezondheidszorg,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76040" y="942480"/>
            <a:ext cx="8556840" cy="1263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952560" indent="-952560">
              <a:buClr>
                <a:srgbClr val="006666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Dataverzameling</a:t>
            </a:r>
            <a:br>
              <a:rPr sz="3700"/>
            </a:b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2009: Indicatorenrapport Armoed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Demografisch achtergron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Inkomen en schu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Kinderen in kansarme gezin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Huisvesting en wo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Gezondhe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Dak- en thuislooshe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100" spc="-1" strike="noStrike">
                <a:solidFill>
                  <a:srgbClr val="006666"/>
                </a:solidFill>
                <a:latin typeface="Arial"/>
              </a:rPr>
              <a:t>6. Dataverzameling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2010: startpunt Kansarmoedeatlas stad Gen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Insteek: statistische sectore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Kaarte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Uitwerken set van indicatoren om sectoren met verhoogd risico te identificere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265040" y="1377720"/>
            <a:ext cx="9628200" cy="5003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9000"/>
          </a:bodyPr>
          <a:p>
            <a:pPr marL="6033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Beleidscontex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Werking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72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Overleg, dialoog en particip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72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Interdepartementale werkgroe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72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Vrijetijdsparticip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72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Opvolgen bele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72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Project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72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Dataverzam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280" y="406440"/>
            <a:ext cx="90946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100" spc="-1" strike="noStrike">
                <a:solidFill>
                  <a:srgbClr val="006666"/>
                </a:solidFill>
                <a:latin typeface="Arial"/>
              </a:rPr>
              <a:t>Beleidscontext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78200" y="2209680"/>
            <a:ext cx="8083440" cy="4135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Oprichting cel armoedebestrij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Bestuursakkoord stad G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Beleidsnota OCM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trategisch meerjarenplan LS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amenstell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Els De Vos, coördinator vanuit Bevolking en Welzij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Eric Dirikx, dataverzameling vanuit Stafdiens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Nancy Adam, administratie vanuit Bevolking en Welzij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Joris Beaumon, vanuit OCMW – stafmedewerker Lokaal Sociaal Belei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438120"/>
            <a:ext cx="855684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-838080"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100" spc="-1" strike="noStrike">
                <a:solidFill>
                  <a:srgbClr val="006666"/>
                </a:solidFill>
                <a:latin typeface="Arial"/>
              </a:rPr>
              <a:t>Overleg, dialoog en participatie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Convenanten: 3 pijler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Dialoog met mensen in armoede: Verenigingen waar armen het woord neme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Materiële hulpverlening: KRA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Dak- en thuisloosheid: Huize Triest – Gemeenschapshuis Tabor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438120"/>
            <a:ext cx="962820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-838080"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100" spc="-1" strike="noStrike">
                <a:solidFill>
                  <a:srgbClr val="006666"/>
                </a:solidFill>
                <a:latin typeface="Arial"/>
              </a:rPr>
              <a:t>Overleg, dialoog en participatie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7400" y="2820600"/>
            <a:ext cx="9628200" cy="500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Forum Kritisch Inkomen (LSB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400" spc="-1" strike="noStrike">
                <a:solidFill>
                  <a:srgbClr val="000000"/>
                </a:solidFill>
                <a:latin typeface="Verdana"/>
              </a:rPr>
              <a:t>Klankbordgroe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Armoedeforum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400" spc="-1" strike="noStrike">
                <a:solidFill>
                  <a:srgbClr val="000000"/>
                </a:solidFill>
                <a:latin typeface="Verdana"/>
              </a:rPr>
              <a:t>2/jaar terugkoppel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5040" y="366840"/>
            <a:ext cx="962820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1 Overleg, dialoog en participatie</a:t>
            </a:r>
            <a:endParaRPr b="0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4600" y="2315880"/>
            <a:ext cx="9628200" cy="500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0">
              <a:spcBef>
                <a:spcPts val="825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Uitdieping participati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Analyse bestaand materiaa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Thematische inpu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Vooraf toetsen van komende beleidsbeslissingen, procedures,… van Stad en OCMW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0">
              <a:spcBef>
                <a:spcPts val="825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9040" y="942480"/>
            <a:ext cx="9628200" cy="1263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-838080">
              <a:buClr>
                <a:srgbClr val="0066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Interdepartementale werkgroep</a:t>
            </a:r>
            <a:br>
              <a:rPr sz="3700"/>
            </a:b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0880" y="2315880"/>
            <a:ext cx="9628200" cy="500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Elk departement van de stad Gent en directies van het OCMW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Creëren draagvla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Toetsen nieuwe initiatiev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Antennefunc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Ad hoc werkgroep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4100" spc="-1" strike="noStrike">
                <a:solidFill>
                  <a:srgbClr val="006666"/>
                </a:solidFill>
                <a:latin typeface="Arial"/>
              </a:rPr>
              <a:t>Profiel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Helikopteroverzich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Affinitei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Mandaat vanuit departemen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Dienstoverschrijdend denke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Continuïtei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Aanspreekpunt departemen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7400" y="942480"/>
            <a:ext cx="9628200" cy="1263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-838080">
              <a:buClr>
                <a:srgbClr val="0066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Vrijetijdsparticipatie</a:t>
            </a:r>
            <a:br>
              <a:rPr sz="3700"/>
            </a:b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Participatiedecreet: kansengroep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lokale netwerken vrijetijdsparticip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afsprakenno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Doel: financiële toegankelijkheid van cultuur, sport en jeugdwe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Reglement 80/2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Uitwerken binnen stuurgroep VTP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Verdana"/>
              </a:rPr>
              <a:t>Distributie ticke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Verdana"/>
              </a:rPr>
              <a:t>Vrijetijdsp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Verdana"/>
              </a:rPr>
              <a:t>Toeleidingsproject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1:44:40Z</dcterms:created>
  <dc:creator>ronny</dc:creator>
  <dc:description/>
  <dc:language>en-US</dc:language>
  <cp:lastModifiedBy>Digipolis</cp:lastModifiedBy>
  <dcterms:modified xsi:type="dcterms:W3CDTF">2010-06-15T09:28:47Z</dcterms:modified>
  <cp:revision>27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64514181</vt:r8>
  </property>
  <property fmtid="{D5CDD505-2E9C-101B-9397-08002B2CF9AE}" pid="3" name="_AuthorEmail">
    <vt:lpwstr>Eric.Dirikx@Gent.be</vt:lpwstr>
  </property>
  <property fmtid="{D5CDD505-2E9C-101B-9397-08002B2CF9AE}" pid="4" name="_AuthorEmailDisplayName">
    <vt:lpwstr>Dirikx Eric</vt:lpwstr>
  </property>
  <property fmtid="{D5CDD505-2E9C-101B-9397-08002B2CF9AE}" pid="5" name="_EmailSubject">
    <vt:lpwstr>presentatie</vt:lpwstr>
  </property>
  <property fmtid="{D5CDD505-2E9C-101B-9397-08002B2CF9AE}" pid="6" name="_PreviousAdHocReviewCycleID">
    <vt:r8>-1600875736</vt:r8>
  </property>
  <property fmtid="{D5CDD505-2E9C-101B-9397-08002B2CF9AE}" pid="7" name="_ReviewingToolsShownOnce">
    <vt:lpwstr/>
  </property>
</Properties>
</file>