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699750" cy="7581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596-7394-48CE-AE24-B5818851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1D8-839D-4D65-8FB0-4BBC516C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47A-9E9A-4E3A-BC83-0A9E0BFA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D40-4F0A-4030-B7A4-9E8F0A51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584-00F8-4049-88CD-1185D29B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D953-73B5-4971-A048-FDFBB990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4DD8-3AFB-42CD-AB8E-82D4871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31B4-6F7F-43E2-B43C-03E6E132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1CD-0426-4BFD-AA6A-CEE925C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F385-26BB-4CFF-B078-5FA51358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14DA-00AD-41A7-AF05-50FC5C06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961-3B8B-411B-9163-79DFE2FE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16A1-A6F9-4C51-901A-83F8A0A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0FD1-5985-435F-9913-6A353F1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0401-4E0F-42CF-8CA4-FA3A248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69C-4F3B-49C4-8FE0-15CA08CA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D491-E287-459A-8EBE-999411D3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6925-8CE4-4A70-891C-7964989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C5CE-B222-461E-908C-5A967F9A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D081-E0E2-43C9-BE61-3E451BBA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4262-BAAA-4EDD-A000-FBA7F5B8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7695-6DF6-4665-B1EA-FAC88A0A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FBC-045D-4C06-883E-6FDD6709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A02B-EEB7-4A63-8508-BA47FCB2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B345-C31A-417D-871F-73ECE4C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EEBF-2F29-429F-9590-5675839B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7273-42A9-449A-9CE4-071A41B4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0212-2FF5-49ED-9F2A-D73823EF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0D77-CBF4-43AF-A9CB-C3371D84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9676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89720" y="2019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60344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49676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7389720" y="4395240"/>
            <a:ext cx="27550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E1F3-B149-470E-B9BE-64613118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316-ABEC-4D16-AC4E-68B1FD3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3FD-5342-4EC8-9836-E02143F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03440" y="333360"/>
            <a:ext cx="855648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8E4-0B2D-4C67-A6A3-E854C0B3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B5A-764C-4E7A-9D0F-66FB75A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87880" y="4395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247-9B4F-42AE-B041-1647890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87880" y="2019240"/>
            <a:ext cx="41752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3440" y="4395240"/>
            <a:ext cx="8556480" cy="2169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D12-0E12-4F34-B474-341EE2DE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176796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901920"/>
            <a:ext cx="249552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4000" y="6901920"/>
            <a:ext cx="338940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7640" y="6901920"/>
            <a:ext cx="2495520" cy="527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41030DB3-60AE-409E-9735-90C8A626F2B4}" type="slidenum">
              <a:rPr b="0" lang="nl-BE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782720" y="1413000"/>
            <a:ext cx="71312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789360" y="0"/>
            <a:ext cx="13952160" cy="4211280"/>
            <a:chOff x="-3789360" y="0"/>
            <a:chExt cx="13952160" cy="4211280"/>
          </a:xfrm>
        </p:grpSpPr>
        <p:sp>
          <p:nvSpPr>
            <p:cNvPr id="47" name=""/>
            <p:cNvSpPr/>
            <p:nvPr/>
          </p:nvSpPr>
          <p:spPr>
            <a:xfrm>
              <a:off x="-3789360" y="757800"/>
              <a:ext cx="4813920" cy="3453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838240" y="0"/>
              <a:ext cx="3619440" cy="3486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4160" y="1684440"/>
              <a:ext cx="85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1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849240" indent="-32688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260280">
              <a:spcBef>
                <a:spcPts val="82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3" marL="1827360" indent="-2606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4" marL="2349360" indent="-260280">
              <a:spcBef>
                <a:spcPts val="825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5" marL="2349360" indent="-26028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6" marL="2349360" indent="-26028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3496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54000" y="6907320"/>
            <a:ext cx="338940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66764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E63A99CB-276C-40DB-A229-B17CB05A883B}" type="slidenum">
              <a:rPr b="0" lang="nl-B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-3770280" y="336600"/>
            <a:ext cx="13933080" cy="5222520"/>
            <a:chOff x="-3770280" y="336600"/>
            <a:chExt cx="13933080" cy="5222520"/>
          </a:xfrm>
        </p:grpSpPr>
        <p:sp>
          <p:nvSpPr>
            <p:cNvPr id="96" name=""/>
            <p:cNvSpPr/>
            <p:nvPr/>
          </p:nvSpPr>
          <p:spPr>
            <a:xfrm>
              <a:off x="1693800" y="2779200"/>
              <a:ext cx="846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-2941560" y="1515600"/>
              <a:ext cx="4278960" cy="40435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3770280" y="336600"/>
              <a:ext cx="4725000" cy="44643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2200" bIns="52200" anchor="t">
              <a:noAutofit/>
            </a:bodyPr>
            <a:p>
              <a:pPr>
                <a:tabLst>
                  <a:tab algn="l" pos="0"/>
                  <a:tab algn="l" pos="1044720"/>
                  <a:tab algn="l" pos="2089080"/>
                  <a:tab algn="l" pos="3133800"/>
                  <a:tab algn="l" pos="4178160"/>
                  <a:tab algn="l" pos="5222880"/>
                  <a:tab algn="l" pos="6267600"/>
                  <a:tab algn="l" pos="7311960"/>
                  <a:tab algn="l" pos="8356680"/>
                  <a:tab algn="l" pos="9401040"/>
                  <a:tab algn="l" pos="10445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7680" y="1089000"/>
            <a:ext cx="8470800" cy="1596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53496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654000" y="6907320"/>
            <a:ext cx="338940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7667640" y="6907320"/>
            <a:ext cx="249552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nl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0710CD0E-95B3-415B-9CD1-B8DE2C59157A}" type="slidenum">
              <a:rPr b="0" lang="nl-B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93760" y="287280"/>
          <a:ext cx="2020680" cy="9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760" y="287280"/>
                    <a:ext cx="20206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8718480" y="287280"/>
            <a:ext cx="169380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7560" y="6894360"/>
            <a:ext cx="9182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9160" rIns="119160" tIns="59760" bIns="59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2387520"/>
                <a:tab algn="l" pos="3581280"/>
                <a:tab algn="l" pos="4775040"/>
                <a:tab algn="l" pos="5969160"/>
                <a:tab algn="l" pos="7162920"/>
                <a:tab algn="l" pos="8356680"/>
                <a:tab algn="l" pos="9550440"/>
                <a:tab algn="l" pos="107442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EL ARMOEDEBESTRIJ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body"/>
          </p:nvPr>
        </p:nvSpPr>
        <p:spPr>
          <a:xfrm>
            <a:off x="534960" y="1774080"/>
            <a:ext cx="9628920" cy="43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522360" indent="0" algn="ctr">
              <a:spcBef>
                <a:spcPts val="726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044720" algn="ctr">
              <a:spcBef>
                <a:spcPts val="6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566720" algn="ctr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89080" algn="ctr">
              <a:spcBef>
                <a:spcPts val="550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89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89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4520" y="2278080"/>
            <a:ext cx="7643880" cy="1625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6666"/>
                </a:solidFill>
                <a:latin typeface="Arial"/>
              </a:rPr>
              <a:t>Cel Armoedebestrijding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1557360"/>
            <a:ext cx="9639360" cy="861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500" spc="-1" strike="noStrike">
                <a:solidFill>
                  <a:srgbClr val="006666"/>
                </a:solidFill>
                <a:latin typeface="Arial"/>
              </a:rPr>
              <a:t>Opvolgen beleid</a:t>
            </a:r>
            <a:br>
              <a:rPr sz="4500"/>
            </a:br>
            <a:r>
              <a:rPr b="0" lang="nl-BE" sz="45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9040" y="220644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nticiperen, implementeren en communicati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Vlaam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decreet armoedebestrij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Vlaams Actieplan Armoedebestrijding 2005-200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Federaal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Federaal Plan Armoedebestrij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Europee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600" spc="-1" strike="noStrike">
                <a:solidFill>
                  <a:srgbClr val="000000"/>
                </a:solidFill>
                <a:latin typeface="Verdana"/>
              </a:rPr>
              <a:t>Euroc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25400" y="870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Projecten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224424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Week tegen Armoede 2009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Week vóór 17 oktob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ommun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oördin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oel = extra aandacht voor het thema armoede binnen diverse diensten en organisati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Projecten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2010: Europees jaar armoedebestrijd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Voorzitterschap EU 2e helft 20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urocities: voorstel congres gezondhe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ationaal Actiepl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Vanuit POD: OCMW’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Gent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Week tegen Armoe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ieuwe Kansarmoedeat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Milleniumdoelstelling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Andere mogelijkheden worden verkend: Internationaal congres vakgroep Huisartsengeneeskunde en eerstelijnsgezondheidszorg,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76040" y="942480"/>
            <a:ext cx="855684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952560" indent="-952560">
              <a:buClr>
                <a:srgbClr val="006666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Dataverzameling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2009: Indicatorenrapport Armoed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emografisch achtergron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Inkomen en schu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Kinderen in kansarme gezin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Huisvesting en wo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Gezondh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ak- en thuisloosh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6. Dataverzameling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2010: startpunt Kansarmoedeatlas stad G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Insteek: statistische sector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Kaart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Uitwerken set van indicatoren om sectoren met verhoogd risico te identificer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65040" y="1377720"/>
            <a:ext cx="9628200" cy="5003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Beleidscontex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Werking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verleg, dialoog en 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Interdepartementale werkgroe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Vrijetijds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Opvolgen bele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726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ataverzam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406440"/>
            <a:ext cx="90946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Beleidscontext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8200" y="2209680"/>
            <a:ext cx="8083440" cy="4135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prichting cel armoedebestrij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Bestuursakkoord stad G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Beleidsnota OCM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rategisch meerjarenplan LS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amenstell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ls De Vos, coördinator vanuit Bevolking en Welzij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Eric Dirikx, dataverzameling vanuit Stafdiens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Nancy Adam, administratie vanuit Bevolking en Welzij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100" spc="-1" strike="noStrike">
                <a:solidFill>
                  <a:srgbClr val="000000"/>
                </a:solidFill>
                <a:latin typeface="Verdana"/>
              </a:rPr>
              <a:t>Joris Beaumon, vanuit OCMW – stafmedewerker Lokaal Sociaal Bele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438120"/>
            <a:ext cx="855684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Overleg, dialoog en participatie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Convenanten: 3 pijler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ialoog met mensen in armoede: Verenigingen waar armen het woord nem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Materiële hulpverlening: KRA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ak- en thuisloosheid: Huize Triest – Gemeenschapshuis Tabor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43812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Overleg, dialoog en participatie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7400" y="282060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Forum Kritisch Inkomen (LSB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Klankbordgroe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rmoedeforum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400" spc="-1" strike="noStrike">
                <a:solidFill>
                  <a:srgbClr val="000000"/>
                </a:solidFill>
                <a:latin typeface="Verdana"/>
              </a:rPr>
              <a:t>2/jaar terugkoppel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5040" y="366840"/>
            <a:ext cx="962820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1 Overleg, dialoog en participatie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231588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Uitdieping participati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nalyse bestaand materiaal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Thematische inpu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Vooraf toetsen van komende beleidsbeslissingen, procedures,… van Stad en OCMW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0">
              <a:spcBef>
                <a:spcPts val="825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9040" y="942480"/>
            <a:ext cx="962820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Interdepartementale werkgroep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40880" y="2315880"/>
            <a:ext cx="9628200" cy="5002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Elk departement van de stad Gent en directies van het OCMW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Creëren draagvla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Toetsen nieuwe initiatiev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ntennefunc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d hoc werkgroep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03440" y="333360"/>
            <a:ext cx="8556480" cy="126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4100" spc="-1" strike="noStrike">
                <a:solidFill>
                  <a:srgbClr val="006666"/>
                </a:solidFill>
                <a:latin typeface="Arial"/>
              </a:rPr>
              <a:t>Profiel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Helikopteroverzich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ffinitei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Mandaat vanuit departe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Dienstoverschrijdend denke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Continuïtei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92040" indent="-392040"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BE" sz="3300" spc="-1" strike="noStrike">
                <a:solidFill>
                  <a:srgbClr val="000000"/>
                </a:solidFill>
                <a:latin typeface="Verdana"/>
              </a:rPr>
              <a:t>Aanspreekpunt departemen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400" y="942480"/>
            <a:ext cx="9628200" cy="1263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marL="838080" indent="-838080">
              <a:buClr>
                <a:srgbClr val="0066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Vrijetijdsparticipatie</a:t>
            </a:r>
            <a:br>
              <a:rPr sz="3700"/>
            </a:br>
            <a:r>
              <a:rPr b="0" lang="nl-BE" sz="37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3440" y="2019240"/>
            <a:ext cx="8556480" cy="4548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Participatiedecreet: kansengroep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lokale netwerken vrijetijdsparticip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afsprakenno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Doel: financiële toegankelijkheid van cultuur, sport en jeugdwe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Reglement 80/2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900" spc="-1" strike="noStrike">
                <a:solidFill>
                  <a:srgbClr val="000000"/>
                </a:solidFill>
                <a:latin typeface="Verdana"/>
              </a:rPr>
              <a:t>Uitwerken binnen stuurgroep VTP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Distributie ticke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Vrijetijdsp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500" spc="-1" strike="noStrike">
                <a:solidFill>
                  <a:srgbClr val="000000"/>
                </a:solidFill>
                <a:latin typeface="Verdana"/>
              </a:rPr>
              <a:t>Toeleidingsprojecte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1:44:40Z</dcterms:created>
  <dc:creator>ronny</dc:creator>
  <dc:description/>
  <dc:language>en-US</dc:language>
  <cp:lastModifiedBy>Digipolis</cp:lastModifiedBy>
  <dcterms:modified xsi:type="dcterms:W3CDTF">2010-06-15T09:28:47Z</dcterms:modified>
  <cp:revision>27</cp:revision>
  <dc:subject/>
  <dc:title>PowerPoint-present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4514181</vt:r8>
  </property>
  <property fmtid="{D5CDD505-2E9C-101B-9397-08002B2CF9AE}" pid="3" name="_AuthorEmail">
    <vt:lpwstr>Eric.Dirikx@Gent.be</vt:lpwstr>
  </property>
  <property fmtid="{D5CDD505-2E9C-101B-9397-08002B2CF9AE}" pid="4" name="_AuthorEmailDisplayName">
    <vt:lpwstr>Dirikx Eric</vt:lpwstr>
  </property>
  <property fmtid="{D5CDD505-2E9C-101B-9397-08002B2CF9AE}" pid="5" name="_EmailSubject">
    <vt:lpwstr>presentatie</vt:lpwstr>
  </property>
  <property fmtid="{D5CDD505-2E9C-101B-9397-08002B2CF9AE}" pid="6" name="_PreviousAdHocReviewCycleID">
    <vt:r8>-1600875736</vt:r8>
  </property>
  <property fmtid="{D5CDD505-2E9C-101B-9397-08002B2CF9AE}" pid="7" name="_ReviewingToolsShownOnce">
    <vt:lpwstr/>
  </property>
</Properties>
</file>